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91C-F7AB-447F-B70F-A023A601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B64-9007-4762-9436-977254CC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EC9-61F9-47D9-81C8-97C61CE4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D55-D7D5-4668-9837-7722400C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73F-D8BD-4B0A-ADC1-6B4FDD3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E36-83BF-46E3-BD50-0F638F38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913-D59A-4BBC-9628-ADE17517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C4A-8841-41DC-8788-EB9CCB49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AFC-CF56-4B49-8A5A-E162886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500-E1EE-4BB4-8F67-1B87D63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01B-5733-4135-B77E-E7B958F2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E43-BD81-40FC-A1FA-6B9E5DA4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B236-1FC1-4518-B839-0BE9C1488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http://rds.yahoo.com/_ylt=A9G_bDhtoX1LsT8AWIGJzbkF;_ylu=X3oDMTBpZTByOGFiBHBvcwMyBHNlYwNzcgR2dGlkAw--/SIG=1glh39tj7/EXP=1266610925/**http%3A//images.search.yahoo.com/images/view%3Fback=http%253A%252F%252Fimages.search.yahoo.com%252Fsearch%252Fimages%253Fp%253Dsmiley%252Bface%2526ei%253Dutf-8%2526fr%253Dsfp%26w=456%26h=474%26imgurl=farm4.static.flickr.com%252F3302%252F3445525688_72b616dce9.jpg%26rurl=http%253A%252F%252Fwww.flickr.com%252Fphotos%252Fauto123%252F3445525688%252F%26size=38k%26name=smiley%2Bface%26p=smiley%2Bface%26oid=df1cee462ef01330%26fr2=%26fusr=Auto123.com%26no=2%26tt=163763%26sigr=11g7kuoso%26sigi=11mcfci5c%26sigb=12a4u658l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oceanup.com/legacy/2008/12/01/miley-cyrus-cheerleader.jpg&amp;imgrefurl=http://oceanup.com/2008/12/miley-cyrus-baby-pictures.html&amp;h=587&amp;w=440&amp;sz=65&amp;tbnid=1iDPl7VPiH0lhM:&amp;tbnh=260&amp;tbnw=195&amp;prev=/images%3Fq%3Dmiley%2Bcyrus%2Bcheerleading&amp;hl=en&amp;usg=__2bIrCasGSWJ8tjIcY9lhPSdj880=&amp;ei=4TKES7DVLIGfnQeG2t3SAQ&amp;sa=X&amp;oi=image_result&amp;resnum=3&amp;ct=image&amp;ved=0CAkQ9QEwA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rds.yahoo.com/_ylt=A9G_bF5jOYRLeCYACa.JzbkF;_ylu=X3oDMTBpc2ozM2gzBHBvcwM0BHNlYwNzcgR2dGlkAw--/SIG=1i71i73ac/EXP=1267043043/**http%3A//images.search.yahoo.com/images/view%3Fback=http%253A%252F%252Fimages.search.yahoo.com%252Fsearch%252Fimages%253Fp%253Dmiley%252Bcyrus%252Bbig%252Bfish%2526ei%253Dutf-8%2526fr%253Dsfp%26w=489%26h=750%26imgurl=www.mymostwanted.com%252Fgallery%252Fdata%252F1362%252Fmiley-cyrus_dot_com_modeling-random1-004.jpg%26rurl=http%253A%252F%252Fwww.miley-word.fan-club.it%252Ft_rssimages.php%26size=89k%26name=miley%2Bcyrus%2Bdot%2B...%26p=miley%2Bcyrus%2Bbig%2Bfish%26oid=ce229ed31eb55d36%26fr2=%26no=4%26tt=1210110%26sigr=11hcpr276%26sigi=12jn3588m%26sigb=12j0m1c3q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pstarsplus.com/actress_mileycyrus.htm" TargetMode="External"/><Relationship Id="rId3" Type="http://schemas.openxmlformats.org/officeDocument/2006/relationships/hyperlink" Target="http://www.people.com/people/miley_cyrus" TargetMode="External"/><Relationship Id="rId4" Type="http://schemas.openxmlformats.org/officeDocument/2006/relationships/hyperlink" Target="http://www.sortmusic.com/_m/miley-cyrus-biography,len.html" TargetMode="External"/><Relationship Id="rId5" Type="http://schemas.openxmlformats.org/officeDocument/2006/relationships/hyperlink" Target="http://www.answers.com/topic/miley-cyrus#Early_life" TargetMode="External"/><Relationship Id="rId6" Type="http://schemas.openxmlformats.org/officeDocument/2006/relationships/hyperlink" Target="http://www.usatoday.com/life/music/news/2008-01-29-miley-cyrus-qna_N.htm" TargetMode="External"/><Relationship Id="rId7" Type="http://schemas.openxmlformats.org/officeDocument/2006/relationships/hyperlink" Target="http://wiki.answers.com/Q/Where_did_Miley_Cyrus_take_acting_lessons" TargetMode="External"/><Relationship Id="rId8" Type="http://schemas.openxmlformats.org/officeDocument/2006/relationships/hyperlink" Target="http://www.metrolyrics.com/miley-cyrus-biography.html" TargetMode="External"/><Relationship Id="rId9" Type="http://schemas.openxmlformats.org/officeDocument/2006/relationships/hyperlink" Target="http://www.aceshowbiz.com/news/view/00019700.html" TargetMode="External"/><Relationship Id="rId10" Type="http://schemas.openxmlformats.org/officeDocument/2006/relationships/hyperlink" Target="http://www.cduniverse.com/search/xx/music/pid/7222270/a/Hannah+Montana.htm" TargetMode="External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86200" y="1905120"/>
            <a:ext cx="4495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ley Cyru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miley cyrus myspace to cooolllll by jaderain99."/>
          <p:cNvPicPr/>
          <p:nvPr/>
        </p:nvPicPr>
        <p:blipFill>
          <a:blip r:embed="rId2"/>
          <a:stretch/>
        </p:blipFill>
        <p:spPr>
          <a:xfrm>
            <a:off x="457200" y="1371600"/>
            <a:ext cx="3171960" cy="4762440"/>
          </a:xfrm>
          <a:prstGeom prst="rect">
            <a:avLst/>
          </a:prstGeom>
          <a:ln w="63360">
            <a:solidFill>
              <a:srgbClr val="333399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4038480" y="3733920"/>
            <a:ext cx="389592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y: Emily Ov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5943600" cy="1560600"/>
          </a:xfrm>
          <a:prstGeom prst="rect">
            <a:avLst/>
          </a:prstGeom>
          <a:ln w="63360">
            <a:solidFill>
              <a:srgbClr val="cc00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6172200" cy="457200"/>
          </a:xfrm>
          <a:prstGeom prst="rect">
            <a:avLst/>
          </a:prstGeom>
          <a:noFill/>
          <a:ln w="63360">
            <a:solidFill>
              <a:srgbClr val="cc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was born in Nashville Tennes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581280"/>
            <a:ext cx="6248160" cy="1371600"/>
          </a:xfrm>
          <a:prstGeom prst="rect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parents are Billy Ray Cyrus and Leticia. Her five siblings are Christopher, Braison Chance, Noah Lindsey, Brandy, and Tr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3505320"/>
            <a:ext cx="457200" cy="533160"/>
          </a:xfrm>
          <a:prstGeom prst="star5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981080"/>
            <a:ext cx="380880" cy="381240"/>
          </a:xfrm>
          <a:prstGeom prst="star5">
            <a:avLst/>
          </a:prstGeom>
          <a:solidFill>
            <a:srgbClr val="000080"/>
          </a:solidFill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228600"/>
            <a:ext cx="4343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arly Childhoo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Miley Cyrus"/>
          <p:cNvPicPr/>
          <p:nvPr/>
        </p:nvPicPr>
        <p:blipFill>
          <a:blip r:embed="rId3"/>
          <a:stretch/>
        </p:blipFill>
        <p:spPr>
          <a:xfrm>
            <a:off x="152280" y="1981080"/>
            <a:ext cx="2343240" cy="3124440"/>
          </a:xfrm>
          <a:prstGeom prst="rect">
            <a:avLst/>
          </a:prstGeom>
          <a:ln w="63360">
            <a:solidFill>
              <a:srgbClr val="ffcc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28600" y="5486400"/>
            <a:ext cx="6553080" cy="75204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y nicknamed her Smiley, which was later shortened to Mil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5257800"/>
            <a:ext cx="1276200" cy="133344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15160" y="2590920"/>
            <a:ext cx="2144520" cy="281916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2280" y="457200"/>
            <a:ext cx="2733840" cy="144288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8229600" cy="60984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went to Heritage Middle Schoo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8120" y="533520"/>
            <a:ext cx="4419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fore The Fa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2666880"/>
            <a:ext cx="923760" cy="94320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276720" y="2819520"/>
            <a:ext cx="3429000" cy="7520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attended church regular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114800"/>
            <a:ext cx="3809880" cy="1190520"/>
          </a:xfrm>
          <a:prstGeom prst="rect">
            <a:avLst/>
          </a:prstGeom>
          <a:noFill/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started taking acting classes when she was nin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638680"/>
            <a:ext cx="5486400" cy="75204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ey worked at Sparkles Cleaning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1471680" cy="2210040"/>
          </a:xfrm>
          <a:prstGeom prst="rect">
            <a:avLst/>
          </a:prstGeom>
          <a:ln w="63360">
            <a:solidFill>
              <a:srgbClr val="00ccff"/>
            </a:solidFill>
            <a:miter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6172200" cy="762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first appeared on “Doc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0" y="228600"/>
            <a:ext cx="39243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rly Care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128680" cy="174780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514600" y="3200400"/>
            <a:ext cx="3733920" cy="970920"/>
          </a:xfrm>
          <a:prstGeom prst="rect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3, Miley wa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g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514600"/>
            <a:ext cx="1922400" cy="2971800"/>
          </a:xfrm>
          <a:prstGeom prst="rect">
            <a:avLst/>
          </a:prstGeom>
          <a:ln w="63360">
            <a:solidFill>
              <a:srgbClr val="993366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200400" y="4876920"/>
            <a:ext cx="4952880" cy="1409400"/>
          </a:xfrm>
          <a:prstGeom prst="rect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appeared in “If Heartaches Have Wing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15200" y="3657600"/>
            <a:ext cx="1523880" cy="114300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63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y was chosen to play Miley Stewart/ Hannah Montana in the popular tv show “Hannah Montana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90920" y="380880"/>
            <a:ext cx="3047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g Brea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124080"/>
            <a:ext cx="5257800" cy="970920"/>
          </a:xfrm>
          <a:prstGeom prst="rect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ctober 2006, Miley released her first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Hannah Montana CD Cover Art"/>
          <p:cNvPicPr/>
          <p:nvPr/>
        </p:nvPicPr>
        <p:blipFill>
          <a:blip r:embed="rId2"/>
          <a:stretch/>
        </p:blipFill>
        <p:spPr>
          <a:xfrm>
            <a:off x="380880" y="2895480"/>
            <a:ext cx="1830600" cy="190512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066680" y="5105520"/>
            <a:ext cx="5562720" cy="1409400"/>
          </a:xfrm>
          <a:prstGeom prst="rect">
            <a:avLst/>
          </a:prstGeom>
          <a:noFill/>
          <a:ln w="63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7, Miley released the Hannah Montana 2/Meet Miley Cyrus 2 cd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Hannah Montana - Hannah Montana 2/Meet Miley Cyrus CD Cover Art"/>
          <p:cNvPicPr/>
          <p:nvPr/>
        </p:nvPicPr>
        <p:blipFill>
          <a:blip r:embed="rId3"/>
          <a:stretch/>
        </p:blipFill>
        <p:spPr>
          <a:xfrm>
            <a:off x="6705720" y="4572000"/>
            <a:ext cx="2000160" cy="2000160"/>
          </a:xfrm>
          <a:prstGeom prst="rect">
            <a:avLst/>
          </a:prstGeom>
          <a:ln w="63360">
            <a:solidFill>
              <a:srgbClr val="99cc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provid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opstarsplus.com/actress_mileycyru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eople.com/people/miley_cy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ortmusic.com/_m/miley-cyrus-biography,l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miley-cyrus#Early_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usatoday.com/life/music/news/2008-01-29-miley-cyrus-qna_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iki.answers.com/Q/Where_did_Miley_Cyrus_take_acting_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metrolyrics.com/miley-cyrus-biograph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aceshowbiz.com/news/view/0001970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cduniverse.com/search/xx/music/pid/7222270/a/Hannah+Montan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809880" y="5181480"/>
            <a:ext cx="1828800" cy="79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9:47:37Z</dcterms:created>
  <dc:creator>overyem</dc:creator>
  <dc:description/>
  <dc:language>en-US</dc:language>
  <cp:lastModifiedBy>overyem</cp:lastModifiedBy>
  <dcterms:modified xsi:type="dcterms:W3CDTF">2010-02-25T20:25:09Z</dcterms:modified>
  <cp:revision>13</cp:revision>
  <dc:subject/>
  <dc:title>Slide 1</dc:title>
</cp:coreProperties>
</file>